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146-0BB4-40FA-B1CF-0A56324E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021-5DE7-4BE5-8223-513D793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0A83A-190D-4637-89CF-40D71F7C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019C0-479D-4B92-BD6E-78F3482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A7C5B-4103-4B1E-9159-A0D204F5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8CFC2-A982-4E6B-A626-34A97D7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2BFF4-00E7-4E0E-A5DF-B8554A02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B8823-A164-4519-AB5A-9CC0731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426D1-C08C-45E0-953A-18EDC75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18692-0ABC-4CF9-AB6A-5EBFEDD4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6F07B-3818-4950-82D6-4E718662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201C7-E82E-48CA-B1E3-F6C2CDCA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A85-5E21-46AC-8587-4ABBAB38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C9CC3-4939-4278-B31E-26163188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D91D1-8A01-4557-BAD6-EBA2ED61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601E-519B-483C-A42C-8746BFE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D9786-B427-485C-91DF-7CEA7320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BE73E-3BC0-420E-9AD6-759F7C5F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A3EDD-27A8-4A8C-BBA9-DC9CD49D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A0BF1-CAD0-41EE-AEA2-FF666BC4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D2A13-7315-4D6E-82FF-57C0FE06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E8DBA-E679-4A3C-B2CF-BF0DE88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318C-EF55-404F-8E8E-B898BD82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FF7-A423-4B25-B4FB-0EFC163E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1D9B4-1498-424F-A383-9A448AB3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74683-6B66-488A-9391-2F57629A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52048-4FA2-41BF-9809-051EE01E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6F1CC-494D-4BCF-A929-ACE7093C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C4D36-7A8E-4A4E-89F8-568950E8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03511-FB05-44BD-B94E-EEA28E26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01AFA-9EA6-427C-AA85-453BCDD5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1E3D-1342-4F0B-8388-A2A224C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9D940-5259-47DD-AA54-FE05BA2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3192-AFC7-4C07-AEF7-CC5A0FB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6805-CF0E-4F97-AF87-0796FF0F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C6492-DAB0-432A-A765-00EAA8DA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6A92-B321-4503-921C-675A28AB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6A512-A025-4D73-AE24-FFA5AC07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A76D5-FF8D-4A9B-B069-0242306A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0CAAA-73C7-4CCA-947B-60ED2354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2B872-281B-46FD-B7CC-3F8FD59E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AE844-7CBC-4E28-9EC2-2C0936A3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62EC7-9B16-43A4-A397-8F5ADFAC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1DC95-A4A2-4153-AC0C-30DA2E45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98CFB-B5F7-4E14-8895-C6D9716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CFAE-9282-4670-9F09-4B29EB09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37E7E-C770-4060-9B61-069D092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7AA5A-0F73-4CF2-AA83-FD87EDF8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A1BD6-2DD2-4B2A-AE4D-39F295BD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74DF5-EA11-4324-88CE-F7497598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B442E-B077-42B3-A594-7C8FC784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6183-5871-40EC-8D25-19F8634E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56BA-67A3-465E-9439-A4C5472F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E04-7F27-4A95-92CC-637BEEAE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2951-E84A-4ABD-ADA2-842CFFD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58B4-AD8C-45CE-9CF6-C552B4D0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8F9-E724-4469-B167-36B6F12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A75-871C-4190-B9B4-3EFD2FBE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A704-6F5F-4CE9-8A43-21C542A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0F3F-5BC7-466C-96A1-456A788C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914-6E62-4C0F-B321-5AED476C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9D59-9755-406A-95DF-279D4BE8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6F42-81FC-4D4A-801F-1B35A994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93CD-17C5-4AF8-BC1F-F095A03D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8C1B-9BC5-476E-8B66-AE1BA76A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6043-3D90-4528-ABC9-B044A099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6198-4001-49BB-8178-B078B9D0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F8B-26B8-47C4-8C47-F2775AC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1440-DF29-4C53-B8F5-B50E8829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8640-AB0F-4DDC-9CB2-8F20B9C1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C3FF-8F12-4F37-97BC-043F6119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34BB-68E2-4929-A3FB-7414CE9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7771-B97B-489A-881F-1834F688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DA76-69E6-4B9A-ACEC-058FD720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B89D-66E3-4F08-A7A0-12F889D7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C6A9-512A-41D2-B508-795FF236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3EC0-B2D5-452B-B991-E6AC6B0B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76C3-77AD-4DBE-BD2F-8610392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FDA-4B4E-40F1-A2DE-0068E21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B9C9-CAE0-49CD-B47B-5295AFE9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0B3B3-3C0F-4619-AE66-FE60B72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209F-908A-4874-B4E7-DC719F7C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62AE3-21D3-4677-8A93-DBE730B7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B14B-795E-492A-B03C-4258A43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C452-3F22-4DE7-B46C-730813D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60C3-7336-4F64-9E22-6F156A1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95B5-2581-4F18-8B42-C6999314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7BCB-5B2C-4DB5-980E-093E738A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F996-C66D-4545-89FB-0EB2F77B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B73-C519-49AD-BDD7-DFE7A607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D0B96-DE2A-465E-9B0F-A63CDD23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E9CB0-EB5A-4DB9-B3A6-F2B42720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7C62-F867-4CD1-A040-F8CBEAB1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D88F3-3BD4-4AB7-A53C-5A5EC3C7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9B28-9642-4E91-BCE3-4CC9897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FF09E-90E2-486C-8EE6-A8EA078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0C15-0BB9-4EAD-BC6B-F4A53B6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8A46-6428-4F0C-A7F8-CA4D946D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0ABAD-5C57-4157-A59E-D3D1032B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BAA8-DD2C-4EDC-A097-7248CF46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68F-036E-463A-A8D2-FFEF33B5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71C2-B55D-458B-8CA0-F9D9A55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FD287-0E7A-4590-8F38-A6AB18C3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A5F44-6C78-478A-A0CC-138AF0B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A296-5EAB-49A6-8647-B73E392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1FEA-9FB9-45FF-A820-1FBA11A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004C-D310-43D1-A46E-7A8DBEE8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473D-6FF1-4325-97BE-8AB6EF07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2B4C-97DA-4132-8CB0-6150553A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8BDD-AD9A-4776-B777-82015FE0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4A758-3B18-441E-8963-92EB224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F3C-2412-4577-8E4F-C3AA4AE1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192D7-68CB-4D34-89C8-D76D8E1B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AD9E-3ED2-43C0-8C61-0E396948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0D7B0-9307-4C71-B4A2-7F7F450F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1F67F-10A6-420A-9C78-0F3789E5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7D22B-873D-4E5E-8C13-56EFC56A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B21BB-BF13-4FBD-9A33-58F7852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93AD9-CB63-4906-82B9-1A3B4A2A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A914-A64E-49E1-848C-27DDFE8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E8FE7-BCE3-47A7-81FC-58608B45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1C1CF-A536-4E3C-9345-24D6AA9A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C48-E574-4DF8-BD7F-0467EAFA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705A-F2AD-408C-8D8A-97EB8D4A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4025-FC86-415D-93C7-DB5575BF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A4F1-21CC-4856-B645-21DA9687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4AB63-A938-432B-8CA4-557A0A92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A0C6-DD79-4E38-826C-BA3EBB79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19D4-5172-4C31-91D9-F5C5ABF7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1E6C0-73C5-4CEA-B04E-A8C507A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276B-A784-4F7B-BDE3-4057F89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A71F2-DB5A-49D5-B77A-CC9749E2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2349D-7616-489B-BD7E-F4D02D06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462-B9C6-4468-9AEB-6B7B421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B81A7-076E-40C7-9B42-DD7D135A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18A9B-CFA1-4580-B850-CE24F34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AF234-FA44-4E29-9331-5155A62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A5CF3-02EB-4974-93B1-B1ADE03E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7F982-82DE-4978-8FF2-684C504A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CB0F2-9403-4B77-A136-C99B945A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0FD0-FE7D-4D5D-AB5D-B65FEB71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20EB3-A46B-494F-8FF5-66B6AAFE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E9805-0EA5-4A07-A333-1C471930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6322F-6392-4A57-848E-96121C4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E85D-6912-4001-A0F4-78DBD7F943B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3D8B-EABA-44C0-9FA7-D87FE9FF5F4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BB61-6703-487E-9A3C-C17E887A05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D154-163C-445A-9517-49E8FC02E1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6D7E-E2BC-48AC-9ADE-079B3D6537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44DE-DF95-44FC-B0B6-7694F7FB8D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212B-205E-4789-8D49-4811BD0BB4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CF4B-9ED3-4B48-BADB-F7D2650C89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F04E-3113-4040-8DD5-30DB599BB3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A39E-FCB3-4FB3-9E17-F9D2BAEAF2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796-AB13-4D93-BF04-50C3EEC358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E064-66B2-4CD8-BB5C-AF20C4E56E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30 Či svojho bra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ážcom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Tebou, Pane, k blížne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ť lásky môžem m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ám síl sviežich skleslém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ochotný vždy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vzácny príklad, P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vnáša j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tvoje 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 jedno spáj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í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dy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m pomáh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svojho brata strážcom s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áujem oň mám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blížnemu vždy príklad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v láske nažíva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úzkosti a bôl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zmieta sám 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vinu na tom ne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málo oňho dbá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í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dy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m pomá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ducha zmáha úna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trácam silu bdieť,</a:t>
            </a:r>
            <a:br>
              <a:rPr sz="4800"/>
            </a:br>
            <a:r>
              <a:rPr b="1" lang="sk-SK" sz="4700" spc="-1" strike="noStrike">
                <a:solidFill>
                  <a:srgbClr val="ffffff"/>
                </a:solidFill>
                <a:latin typeface="Arial"/>
              </a:rPr>
              <a:t>keď úzkosť z nástrah tiesni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ieľ v diaľke nevid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Strážca najvernejš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blízko pri mne bu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 viere mojej stál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ádej novú vz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ím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etle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avdy</a:t>
            </a: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m pomá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03:55Z</dcterms:modified>
  <cp:revision>21</cp:revision>
  <dc:subject/>
  <dc:title>Je veľký náš Pán, on slávy je Kráľ Nech do všetkých strán  spev vrúcnych znie chvál.</dc:title>
</cp:coreProperties>
</file>